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328F3-B7C6-454B-BACE-839B98C34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A7981-259B-49B1-8848-4F0337EA9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EA1F9-BCD5-4F7A-9B56-1CB635835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216C6-769F-424D-8443-81E61CA6B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DFAFC-C6E6-4752-B866-5E4AB371E9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051E4-085C-4A7B-A48A-A3AA6FA7F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7633E-4BD6-45B3-820F-8715122F5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CDB16-B4AA-49C4-8F4E-C53406E9F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D7E54-6CDD-4B4C-A3A2-3DD9CC762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637A9-CC9A-4649-A7E8-A34B4612C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27EC1-612B-40BB-81AB-ECFDF6854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8F4EE-DF0A-4DD6-8482-653800FDC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ACECE-490A-413A-A630-5DFF8931E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1D7EF-961C-4F47-A867-FC1D87837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1B9F9-DBD6-4763-9169-5F9BDE7AB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143EAD-CB7D-4419-88ED-00792C54D4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B71EED-A943-4CA0-A045-3F0BF180D9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F30B6-4AEE-47F1-A504-860983717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D6D7C-D99C-4B0A-9C83-8F0E2D65E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D4743-C8FA-4F0A-80DD-E939566E9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5454F-4723-4887-BDF7-D9CFCCA8C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65D2A-4BC8-4F5E-9A62-381D8C343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D42AF-9C7E-4A79-9173-869916278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22C41-8C1A-44FA-89B8-C2329E4BBF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D68EF-6F89-4555-A1DF-819E8AE870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B9229-DD0A-43F9-8D3E-77B4183A2E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142640" y="2362320"/>
            <a:ext cx="7162920" cy="22096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 Plan Presentation</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rs. Roeder</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2"/>
          <p:cNvSpPr>
            <a:spLocks noGrp="1"/>
          </p:cNvSpPr>
          <p:nvPr>
            <p:ph type="title"/>
          </p:nvPr>
        </p:nvSpPr>
        <p:spPr>
          <a:xfrm>
            <a:off x="838080" y="13716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Sharing Our Planet</a:t>
            </a:r>
            <a:endParaRPr b="1" lang="en-US" sz="5400" spc="-1" strike="noStrike">
              <a:solidFill>
                <a:srgbClr val="feec94"/>
              </a:solidFill>
              <a:latin typeface="Times New Roman"/>
            </a:endParaRPr>
          </a:p>
        </p:txBody>
      </p:sp>
      <p:pic>
        <p:nvPicPr>
          <p:cNvPr id="122" name="" descr=""/>
          <p:cNvPicPr/>
          <p:nvPr/>
        </p:nvPicPr>
        <p:blipFill>
          <a:blip r:embed="rId1"/>
          <a:stretch/>
        </p:blipFill>
        <p:spPr>
          <a:xfrm>
            <a:off x="8381880" y="6095880"/>
            <a:ext cx="762120" cy="762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Unit Summary</a:t>
            </a:r>
            <a:endParaRPr b="1" lang="en-US" sz="4400" spc="-1" strike="noStrike">
              <a:solidFill>
                <a:srgbClr val="feec94"/>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is unit, students will either take the role of environmentalist or consumerist after reading the novel by Jean Craighead George, There’s an Owl in the Shower, which pertains to the destruction of forests and endangering a particular owl species.  As they work through the unit activities, students analyze research, formulate their own opinion and defend their role regarding the use of natural resources and how that affects the surrounding animals and environment. </a:t>
            </a:r>
            <a:endParaRPr b="0" lang="en-US" sz="2800" spc="-1" strike="noStrike">
              <a:solidFill>
                <a:srgbClr val="ffffff"/>
              </a:solidFill>
              <a:latin typeface="Times New Roman"/>
            </a:endParaRPr>
          </a:p>
        </p:txBody>
      </p:sp>
      <p:pic>
        <p:nvPicPr>
          <p:cNvPr id="125" name="" descr=""/>
          <p:cNvPicPr/>
          <p:nvPr/>
        </p:nvPicPr>
        <p:blipFill>
          <a:blip r:embed="rId1"/>
          <a:stretch/>
        </p:blipFill>
        <p:spPr>
          <a:xfrm>
            <a:off x="7329600" y="6095880"/>
            <a:ext cx="1814400" cy="503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urriculum-Framing Questions</a:t>
            </a: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sential Question</a:t>
            </a:r>
            <a:endParaRPr b="0" lang="en-US" sz="24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is the price of life?</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Questions</a:t>
            </a:r>
            <a:endParaRPr b="0" lang="en-US" sz="24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do animals rely on their natural habitats?</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ve people negatively affected natural habitats in the past?</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 animals’ lives more important than peoples’?</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can be done help people and animals co-exist?</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ent Questions</a:t>
            </a:r>
            <a:endParaRPr b="0" lang="en-US" sz="24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is an animals’ habitat?</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makes a species endangered?</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are some endangered species?</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are the some ways people have harmed natural habitats?</a:t>
            </a:r>
            <a:endParaRPr b="0" lang="en-US" sz="2000" spc="-1" strike="noStrike">
              <a:solidFill>
                <a:srgbClr val="ffffff"/>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28" name="" descr=""/>
          <p:cNvPicPr/>
          <p:nvPr/>
        </p:nvPicPr>
        <p:blipFill>
          <a:blip r:embed="rId1"/>
          <a:stretch/>
        </p:blipFill>
        <p:spPr>
          <a:xfrm>
            <a:off x="8229600" y="6086520"/>
            <a:ext cx="914400" cy="77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Sharing Our Planet</a:t>
            </a:r>
            <a:br>
              <a:rPr sz="4000"/>
            </a:br>
            <a:r>
              <a:rPr b="1" lang="en-US" sz="4000" spc="-1" strike="noStrike">
                <a:solidFill>
                  <a:srgbClr val="feec94"/>
                </a:solidFill>
                <a:latin typeface="Times New Roman"/>
              </a:rPr>
              <a:t> Project</a:t>
            </a:r>
            <a:endParaRPr b="1" lang="en-US" sz="40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project will help my students develop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1</a:t>
            </a:r>
            <a:r>
              <a:rPr b="0" lang="en-US" sz="3200" spc="-1" strike="noStrike" baseline="30000">
                <a:solidFill>
                  <a:srgbClr val="ffffff"/>
                </a:solidFill>
                <a:latin typeface="Times New Roman"/>
              </a:rPr>
              <a:t>st</a:t>
            </a:r>
            <a:r>
              <a:rPr b="0" lang="en-US" sz="3200" spc="-1" strike="noStrike">
                <a:solidFill>
                  <a:srgbClr val="ffffff"/>
                </a:solidFill>
                <a:latin typeface="Times New Roman"/>
              </a:rPr>
              <a:t> Century skills by:</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1" name=""/>
          <p:cNvSpPr/>
          <p:nvPr/>
        </p:nvSpPr>
        <p:spPr>
          <a:xfrm>
            <a:off x="457200" y="3352680"/>
            <a:ext cx="8153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eec9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Collaborating with peers</a:t>
            </a:r>
            <a:endParaRPr b="0" lang="en-US" sz="2800" spc="-1" strike="noStrike">
              <a:solidFill>
                <a:srgbClr val="ffffff"/>
              </a:solidFill>
              <a:latin typeface="Arial"/>
            </a:endParaRPr>
          </a:p>
          <a:p>
            <a:pPr>
              <a:lnSpc>
                <a:spcPct val="100000"/>
              </a:lnSpc>
              <a:buClr>
                <a:srgbClr val="feec9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Analyzing data about bean plants and drawing conclusions to answer Unit Questions</a:t>
            </a:r>
            <a:endParaRPr b="0" lang="en-US" sz="2800" spc="-1" strike="noStrike">
              <a:solidFill>
                <a:srgbClr val="ffffff"/>
              </a:solidFill>
              <a:latin typeface="Arial"/>
            </a:endParaRPr>
          </a:p>
          <a:p>
            <a:pPr>
              <a:lnSpc>
                <a:spcPct val="100000"/>
              </a:lnSpc>
              <a:buClr>
                <a:srgbClr val="feec9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Solving problems and making decisions about their experiment</a:t>
            </a:r>
            <a:endParaRPr b="0" lang="en-US" sz="2800" spc="-1" strike="noStrike">
              <a:solidFill>
                <a:srgbClr val="ffffff"/>
              </a:solidFill>
              <a:latin typeface="Arial"/>
            </a:endParaRPr>
          </a:p>
          <a:p>
            <a:pPr>
              <a:lnSpc>
                <a:spcPct val="100000"/>
              </a:lnSpc>
              <a:buClr>
                <a:srgbClr val="feec9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Communicating with others in a newsletter</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2" name="" descr=""/>
          <p:cNvPicPr/>
          <p:nvPr/>
        </p:nvPicPr>
        <p:blipFill>
          <a:blip r:embed="rId1"/>
          <a:stretch/>
        </p:blipFill>
        <p:spPr>
          <a:xfrm>
            <a:off x="8140680" y="6172200"/>
            <a:ext cx="1003320" cy="48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8:04:08Z</dcterms:created>
  <dc:creator>Eldred Central School</dc:creator>
  <dc:description/>
  <dc:language>en-US</dc:language>
  <cp:lastModifiedBy>Eldred Central School</cp:lastModifiedBy>
  <dcterms:modified xsi:type="dcterms:W3CDTF">2010-06-30T19:34:05Z</dcterms:modified>
  <cp:revision>7</cp:revision>
  <dc:subject/>
  <dc:title>Slide 1</dc:title>
</cp:coreProperties>
</file>